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57.png" ContentType="image/png"/>
  <Override PartName="/ppt/media/image20.png" ContentType="image/png"/>
  <Override PartName="/ppt/media/image28.jpeg" ContentType="image/jpeg"/>
  <Override PartName="/ppt/media/image36.png" ContentType="image/png"/>
  <Override PartName="/ppt/media/image9.jpeg" ContentType="image/jpeg"/>
  <Override PartName="/ppt/media/image59.png" ContentType="image/png"/>
  <Override PartName="/ppt/media/image71.png" ContentType="image/png"/>
  <Override PartName="/ppt/media/image21.jpeg" ContentType="image/jpeg"/>
  <Override PartName="/ppt/media/image65.png" ContentType="image/png"/>
  <Override PartName="/ppt/media/image62.png" ContentType="image/png"/>
  <Override PartName="/ppt/media/image96.jpeg" ContentType="image/jpeg"/>
  <Override PartName="/ppt/media/image63.png" ContentType="image/png"/>
  <Override PartName="/ppt/media/image66.png" ContentType="image/png"/>
  <Override PartName="/ppt/media/image67.png" ContentType="image/png"/>
  <Override PartName="/ppt/media/image64.png" ContentType="image/png"/>
  <Override PartName="/ppt/media/image77.jpeg" ContentType="image/jpeg"/>
  <Override PartName="/ppt/media/image70.png" ContentType="image/png"/>
  <Override PartName="/ppt/media/image92.png" ContentType="image/png"/>
  <Override PartName="/ppt/media/image89.png" ContentType="image/png"/>
  <Override PartName="/ppt/media/image52.png" ContentType="image/png"/>
  <Override PartName="/ppt/media/image87.png" ContentType="image/png"/>
  <Override PartName="/ppt/media/image50.png" ContentType="image/png"/>
  <Override PartName="/ppt/media/image86.png" ContentType="image/png"/>
  <Override PartName="/ppt/media/image74.png" ContentType="image/png"/>
  <Override PartName="/ppt/media/image84.png" ContentType="image/png"/>
  <Override PartName="/ppt/media/image24.jpeg" ContentType="image/jpeg"/>
  <Override PartName="/ppt/media/image95.png" ContentType="image/png"/>
  <Override PartName="/ppt/media/image60.png" ContentType="image/png"/>
  <Override PartName="/ppt/media/image85.png" ContentType="image/png"/>
  <Override PartName="/ppt/media/image82.jpeg" ContentType="image/jpeg"/>
  <Override PartName="/ppt/media/image33.png" ContentType="image/png"/>
  <Override PartName="/ppt/media/image73.png" ContentType="image/png"/>
  <Override PartName="/ppt/media/image79.png" ContentType="image/png"/>
  <Override PartName="/ppt/media/image78.png" ContentType="image/png"/>
  <Override PartName="/ppt/media/image76.png" ContentType="image/png"/>
  <Override PartName="/ppt/media/image69.png" ContentType="image/png"/>
  <Override PartName="/ppt/media/image27.jpeg" ContentType="image/jpeg"/>
  <Override PartName="/ppt/media/image10.jpeg" ContentType="image/jpeg"/>
  <Override PartName="/ppt/media/image2.png" ContentType="image/png"/>
  <Override PartName="/ppt/media/image14.png" ContentType="image/png"/>
  <Override PartName="/ppt/media/image22.jpeg" ContentType="image/jpeg"/>
  <Override PartName="/ppt/media/image81.jpeg" ContentType="image/jpeg"/>
  <Override PartName="/ppt/media/image75.png" ContentType="image/png"/>
  <Override PartName="/ppt/media/image1.jpeg" ContentType="image/jpeg"/>
  <Override PartName="/ppt/media/image11.png" ContentType="image/png"/>
  <Override PartName="/ppt/media/image48.png" ContentType="image/png"/>
  <Override PartName="/ppt/media/image90.png" ContentType="image/png"/>
  <Override PartName="/ppt/media/image25.png" ContentType="image/png"/>
  <Override PartName="/ppt/media/image19.jpeg" ContentType="image/jpeg"/>
  <Override PartName="/ppt/media/image32.png" ContentType="image/png"/>
  <Override PartName="/ppt/media/image93.jpeg" ContentType="image/jpeg"/>
  <Override PartName="/ppt/media/image29.png" ContentType="image/png"/>
  <Override PartName="/ppt/media/image51.wmf" ContentType="image/x-wmf"/>
  <Override PartName="/ppt/media/image94.png" ContentType="image/png"/>
  <Override PartName="/ppt/media/image3.png" ContentType="image/png"/>
  <Override PartName="/ppt/media/image15.png" ContentType="image/png"/>
  <Override PartName="/ppt/media/image80.png" ContentType="image/png"/>
  <Override PartName="/ppt/media/image5.jpeg" ContentType="image/jpeg"/>
  <Override PartName="/ppt/media/image61.png" ContentType="image/png"/>
  <Override PartName="/ppt/media/image26.png" ContentType="image/png"/>
  <Override PartName="/ppt/media/image8.jpeg" ContentType="image/jpeg"/>
  <Override PartName="/ppt/media/image91.png" ContentType="image/png"/>
  <Override PartName="/ppt/media/image39.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8A88D8-1380-458E-A06E-216A5F0A2F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15A9D9-F550-4272-9739-EA19CF3D27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D86E4-F6A2-4F9D-8F6F-0E7C92F30E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F9C9A-44CB-4A85-92D0-4E18D5FBE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81202-25FD-4878-8C26-555B46D2B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64B0C-2F1B-4659-8276-40EA42F8E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A77275-0BCE-4601-87A0-42E53ECA1B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7A0E01-53F5-45C0-BD9A-940741AA9F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C92603-EAAB-4658-9571-5557124E49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B23AFF-468D-4634-88D4-FABDF32F78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0F63E5-3E1D-44AB-A055-FF98E38EF5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5EE7AC-D547-4CF7-B4D5-CACA9CA515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7365A-F5DF-46E5-86D4-7DBE656DF5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A946F-4252-444A-9807-3102F16ED9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78FD46-42E7-4C1A-B78A-4B30811F5D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3E41B-D4BE-4F62-A859-6AF08E7BD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70EF9-1D54-4C8E-A93A-8216D0B72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00D57-93F0-4069-95BD-DFF0A2E891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B0B29-5AA3-467F-ABA6-7767C8BCF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99082D-B2F8-42B7-8C68-CB013BE60A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FBB802-7F03-4A55-8B42-D35D1B72B6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7F4609-72F9-4796-82E2-82B7B24B78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8BA29D-D9D3-457B-863E-43BF6FD8AF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A35C24-C188-4753-9A1C-3B53E51572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13AB3A-B3AD-4E33-94CD-DA5DEECE64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E808EF-BF5E-4139-B858-707E6631C8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298E14-2DE8-42B5-B5F2-0F6F295323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96B26E-0B6D-4AE5-BFDC-746DD260DB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F2A8AF-87BB-4163-9910-9A5D2CCE53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6845-6ED0-433D-A2BF-61B947330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CC54EC-0181-4F05-94F6-2DE0DCCAE1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E994A3-2EA0-423C-8484-4AC0F08BDD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C58F74-DF0A-4C8A-935A-D5BF44DC76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44463B-8474-4D16-996A-9B707F674A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59CAB3-E089-4E0F-9B24-7D9B49E043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9BBE06E-5531-420C-A04D-7B1A2B8EC6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2F6EA7-BE97-42CB-BC1F-BE42ECE390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BBBEC0-8DFE-44D3-A345-8408623496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FE38DA-2385-4077-8C06-FDDBD2224F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5208A9-0BE4-45A3-97F4-B56ECC19A1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0ABAC-E7E1-4211-AD26-1C72036C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939673-EC62-42BA-B3D7-FE03580212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6E4569-2B78-43B0-9E19-DE41A2450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767334-3981-4753-932B-33D2974CE9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2C8310-6E76-4DED-BC4A-77FD98049F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FADDC9-D89F-45F3-B33F-A1EB9074D0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2D1B5F-160B-41B2-B461-568F826DDA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DD888E-4538-488C-9872-E2ECF5182E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F4C3-80EB-4E6A-8B08-CBBA9F908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09A79-658A-4FEA-A06B-1DBD9F5A9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026C5-65CE-4136-A4ED-50B063A59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B79C3-FBEE-4464-A574-E11870B02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8566-151B-4A3F-92F1-5F4768C2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386F-BB19-4430-BD17-4C55FBADE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B5789-0335-4DC0-9A47-708C60EE1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60677-3651-4496-A52C-60FFCA0CD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6FF12-A954-47E4-B215-304A9A165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A9B74-E307-4527-8EB3-D8E87C292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666D4-A893-47D9-A351-651E02F14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DB4D7-A53C-4677-B651-F63C343A2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E477C-B63C-4A6F-8F28-4CF83C07C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32EC9-0801-4AC1-A240-4C72276D5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B854B-E69B-4EFB-984E-BACC8A44F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5D24E-5940-46EC-8185-F8ECCD0E6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57520-D78F-496B-9321-46F1C4260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4D695-7E9F-458B-9C7C-BF50BBB17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F52BA-2FA4-4FAC-9C0D-3F1B46254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46FFD-3B2A-40AC-99B2-C8C71C74C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89116-FC40-46A5-97E7-66D4B8B73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A621BD-43F9-47CE-A551-E4E91F26C5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40F3B-7176-49DD-ABDB-11F5F38097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A10C3-90E4-4CDB-BE5D-6AA2DC38D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6BC6D-8C83-4957-9DBB-971837620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71310-E6EC-4359-8A73-3CEA54B93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ECEDE-EF52-40BA-811E-5488B984E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AEF07-3E29-44C5-AE7E-06954986F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0C761-9963-475A-AC6C-B71E6B1C7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CC9AA-5B45-49D0-B046-4FF5D7E01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63BF3-0B2E-40B7-8A21-2ABAB01227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1CDC53-940D-4D21-8683-E5A3066922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B36933-F59D-4AD2-A05E-5B5A9E1CE6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141A1A-1C6D-4ACF-8496-4A622231FD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A1A90-5D1C-4186-B277-0FA496679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883F8-A0E0-4E5E-9D05-7A0B4F6D6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E8C1F-DEC7-4615-8A37-65F1E928D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C9F9A-87A4-437D-BF77-7A287A4D4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DEFEA-F8B6-4A9C-A1FB-874EC6AF5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24DEF-0299-4CA3-9827-D82A9D47A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E5339-958C-43FE-9CF7-0546F0ED5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02939D-4F9B-4DB3-9A10-4C90F7144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639980-A781-4FE2-A8F6-2B31EA7D9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1F90F0-8485-4528-9A9E-4816AEDB7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8ABEB-E9E7-4627-8466-12C91B0E9C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297130-22F2-42E3-8774-2CCAD7B64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C597B7-1DE4-4B54-AE94-324C58D0C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B9541-8850-4FC9-850B-F4B6116B27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0B4F4-F37D-4343-A62F-B8159BE29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C2DDF-23E2-4B30-B621-128C2D4B3A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C7056-5D5A-4321-9692-18B36292EF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CD20C-068F-460E-815E-ED81AB478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8E646-C875-4CE7-9D45-4C397EFE2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CF71CB-E263-49A6-862A-99AC20F61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CB86B0-10E3-4558-97B7-99595D3B91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3CD784-01DB-44BF-AA2D-7A0A38D3B5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35558F-D87B-41F1-9BA4-FAFDD817A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423966-6F39-474D-93C3-E823A9B483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F2CBF-4ED9-48C1-AFFC-AD009A08CA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A39E77-A9BB-4E5C-AE99-D0786E26F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BABFD-601F-43A4-8586-D973A3B1EE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1A850-D29B-4794-8E82-120C80325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19F5F-7A26-4C11-ABDD-6806885B9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03ECC-62B8-490F-919F-AFF80C0F7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6F9BF-F463-4010-A9AD-76738CABC4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8C398-85BF-43A3-9731-6224D4F89F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42AED6-2B26-4ECD-9C88-9E385F6B69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83EFA6-4BF6-4F23-A1A7-57FF00EA63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91DAFC-20BD-4AC0-89D6-3586DC317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570059-D682-442A-8F79-6DBF171400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B1DE67-B8A4-4530-AAC4-B572B3BB8B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B0384-C9F5-4B63-9708-6CC8E081CB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17F86-B31D-4396-BD66-35A629AF8A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F2C2F-2EE1-470D-87D1-A0C7155BE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BD395-73E7-479B-BB5C-CAF732970E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6F915-7086-4905-B6DC-819E3C3BC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76752-282F-4D26-974A-3F568F3F7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45FED-6406-49CF-848F-AA734E6A6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7BB1B-7456-4245-900E-31F0BB9A21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84406-69A3-4786-90C7-80D306D4B0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24CED4-D357-4FA7-86CB-DE5FD4BDB5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2C2C26-7C40-4EB2-A685-AFFE3FD3E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22EAB-EBE5-4621-A420-2118608331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66951-97F5-447C-8BD1-1EB06BCDE4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C441-D079-4795-85EE-80F1C22AE94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9E7A-3253-4047-96F9-4903F503932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C4FA-21CC-47DC-AC43-6D77C6BFCEA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1879-7514-48D3-982F-31E53035DE9E}"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332E-CBBE-4897-904C-ECB368E6026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7D5F-5A6F-4414-A2A6-4CBA6802F64C}"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B7BD-2022-43B0-A8C3-74012A588AE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D96D-076B-4A50-803C-C2E3B991417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56B8-AB0C-4A5D-895E-F831F231BB92}"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0ED3-6524-4D27-B109-F3B09EB57FF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D4E1-D1DC-4B93-8498-DBDBD5CCEB3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7.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2.xml"/><Relationship Id="rId6"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7.xml"/><Relationship Id="rId14" Type="http://schemas.openxmlformats.org/officeDocument/2006/relationships/slide" Target="slide38.xml"/><Relationship Id="rId15" Type="http://schemas.openxmlformats.org/officeDocument/2006/relationships/slide" Target="slide37.xml"/><Relationship Id="rId16" Type="http://schemas.openxmlformats.org/officeDocument/2006/relationships/slide" Target="slide37.xml"/><Relationship Id="rId17" Type="http://schemas.openxmlformats.org/officeDocument/2006/relationships/slide" Target="slide37.xml"/><Relationship Id="rId18" Type="http://schemas.openxmlformats.org/officeDocument/2006/relationships/slide" Target="slide37.xml"/><Relationship Id="rId19" Type="http://schemas.openxmlformats.org/officeDocument/2006/relationships/slide" Target="slide37.xml"/><Relationship Id="rId20" Type="http://schemas.openxmlformats.org/officeDocument/2006/relationships/slide" Target="slide37.xml"/><Relationship Id="rId21" Type="http://schemas.openxmlformats.org/officeDocument/2006/relationships/slide" Target="slide37.xml"/><Relationship Id="rId22" Type="http://schemas.openxmlformats.org/officeDocument/2006/relationships/slide" Target="slide37.xml"/><Relationship Id="rId23" Type="http://schemas.openxmlformats.org/officeDocument/2006/relationships/image" Target="../media/image70.png"/><Relationship Id="rId24" Type="http://schemas.openxmlformats.org/officeDocument/2006/relationships/image" Target="../media/image71.png"/><Relationship Id="rId25" Type="http://schemas.openxmlformats.org/officeDocument/2006/relationships/image" Target="../media/image72.png"/><Relationship Id="rId26" Type="http://schemas.openxmlformats.org/officeDocument/2006/relationships/image" Target="../media/image73.png"/><Relationship Id="rId27" Type="http://schemas.openxmlformats.org/officeDocument/2006/relationships/image" Target="../media/image74.png"/><Relationship Id="rId28" Type="http://schemas.openxmlformats.org/officeDocument/2006/relationships/image" Target="../media/image75.png"/><Relationship Id="rId29"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80.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8.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8.png"/><Relationship Id="rId3" Type="http://schemas.openxmlformats.org/officeDocument/2006/relationships/image" Target="../media/image82.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94.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jpeg"/><Relationship Id="rId3" Type="http://schemas.openxmlformats.org/officeDocument/2006/relationships/image" Target="../media/image67.png"/><Relationship Id="rId4"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67.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67.png"/><Relationship Id="rId3"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a:hlinkClick r:id="rId5" action="ppaction://hlinksldjump"/>
          </p:cNvPr>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a:hlinkClick r:id="rId13"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a:hlinkClick r:id="rId14"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a:hlinkClick r:id="rId15"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a:hlinkClick r:id="rId16"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a:hlinkClick r:id="rId17"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a:hlinkClick r:id="rId18"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a:hlinkClick r:id="rId19"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a:hlinkClick r:id="rId20"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a:hlinkClick r:id="rId21"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a:hlinkClick r:id="rId22"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23"/>
          <a:stretch/>
        </p:blipFill>
        <p:spPr>
          <a:xfrm>
            <a:off x="8089920" y="2457360"/>
            <a:ext cx="1041480" cy="419040"/>
          </a:xfrm>
          <a:prstGeom prst="rect">
            <a:avLst/>
          </a:prstGeom>
          <a:ln w="0">
            <a:noFill/>
          </a:ln>
        </p:spPr>
      </p:pic>
      <p:pic>
        <p:nvPicPr>
          <p:cNvPr id="771" name="101 Rectángulo" descr=""/>
          <p:cNvPicPr/>
          <p:nvPr/>
        </p:nvPicPr>
        <p:blipFill>
          <a:blip r:embed="rId24"/>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25"/>
          <a:stretch/>
        </p:blipFill>
        <p:spPr>
          <a:xfrm>
            <a:off x="8174160" y="4456080"/>
            <a:ext cx="1042920" cy="420840"/>
          </a:xfrm>
          <a:prstGeom prst="rect">
            <a:avLst/>
          </a:prstGeom>
          <a:ln w="0">
            <a:noFill/>
          </a:ln>
        </p:spPr>
      </p:pic>
      <p:pic>
        <p:nvPicPr>
          <p:cNvPr id="778" name="112 Rectángulo" descr=""/>
          <p:cNvPicPr/>
          <p:nvPr/>
        </p:nvPicPr>
        <p:blipFill>
          <a:blip r:embed="rId26"/>
          <a:stretch/>
        </p:blipFill>
        <p:spPr>
          <a:xfrm>
            <a:off x="2371680" y="4456080"/>
            <a:ext cx="1041480" cy="420840"/>
          </a:xfrm>
          <a:prstGeom prst="rect">
            <a:avLst/>
          </a:prstGeom>
          <a:ln w="0">
            <a:noFill/>
          </a:ln>
        </p:spPr>
      </p:pic>
      <p:pic>
        <p:nvPicPr>
          <p:cNvPr id="779" name="122 Rectángulo" descr=""/>
          <p:cNvPicPr/>
          <p:nvPr/>
        </p:nvPicPr>
        <p:blipFill>
          <a:blip r:embed="rId27"/>
          <a:stretch/>
        </p:blipFill>
        <p:spPr>
          <a:xfrm>
            <a:off x="7589880" y="5883120"/>
            <a:ext cx="1041480" cy="420840"/>
          </a:xfrm>
          <a:prstGeom prst="rect">
            <a:avLst/>
          </a:prstGeom>
          <a:ln w="0">
            <a:noFill/>
          </a:ln>
        </p:spPr>
      </p:pic>
      <p:pic>
        <p:nvPicPr>
          <p:cNvPr id="780" name="124 Rectángulo" descr=""/>
          <p:cNvPicPr/>
          <p:nvPr/>
        </p:nvPicPr>
        <p:blipFill>
          <a:blip r:embed="rId28"/>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1 Rectángulo" descr=""/>
          <p:cNvPicPr/>
          <p:nvPr/>
        </p:nvPicPr>
        <p:blipFill>
          <a:blip r:embed="rId1"/>
          <a:stretch/>
        </p:blipFill>
        <p:spPr>
          <a:xfrm>
            <a:off x="4248000" y="1285920"/>
            <a:ext cx="2347920" cy="536400"/>
          </a:xfrm>
          <a:prstGeom prst="rect">
            <a:avLst/>
          </a:prstGeom>
          <a:ln w="0">
            <a:noFill/>
          </a:ln>
        </p:spPr>
      </p:pic>
      <p:sp>
        <p:nvSpPr>
          <p:cNvPr id="899"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Calibri"/>
            </a:endParaRPr>
          </a:p>
        </p:txBody>
      </p:sp>
      <p:pic>
        <p:nvPicPr>
          <p:cNvPr id="900" name="3 Imagen" descr="outsourcing_advant.jpg"/>
          <p:cNvPicPr/>
          <p:nvPr/>
        </p:nvPicPr>
        <p:blipFill>
          <a:blip r:embed="rId2"/>
          <a:stretch/>
        </p:blipFill>
        <p:spPr>
          <a:xfrm>
            <a:off x="3571920" y="3786120"/>
            <a:ext cx="3429000" cy="2619360"/>
          </a:xfrm>
          <a:prstGeom prst="rect">
            <a:avLst/>
          </a:prstGeom>
          <a:ln w="0">
            <a:noFill/>
          </a:ln>
        </p:spPr>
      </p:pic>
      <p:sp>
        <p:nvSpPr>
          <p:cNvPr id="901"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2"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1 Rectángulo" descr=""/>
          <p:cNvPicPr/>
          <p:nvPr/>
        </p:nvPicPr>
        <p:blipFill>
          <a:blip r:embed="rId1"/>
          <a:stretch/>
        </p:blipFill>
        <p:spPr>
          <a:xfrm>
            <a:off x="4248000" y="1285920"/>
            <a:ext cx="2347920" cy="536400"/>
          </a:xfrm>
          <a:prstGeom prst="rect">
            <a:avLst/>
          </a:prstGeom>
          <a:ln w="0">
            <a:noFill/>
          </a:ln>
        </p:spPr>
      </p:pic>
      <p:sp>
        <p:nvSpPr>
          <p:cNvPr id="904"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5"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6"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1 Rectángulo" descr=""/>
          <p:cNvPicPr/>
          <p:nvPr/>
        </p:nvPicPr>
        <p:blipFill>
          <a:blip r:embed="rId1"/>
          <a:stretch/>
        </p:blipFill>
        <p:spPr>
          <a:xfrm>
            <a:off x="4248000" y="1285920"/>
            <a:ext cx="2347920" cy="536400"/>
          </a:xfrm>
          <a:prstGeom prst="rect">
            <a:avLst/>
          </a:prstGeom>
          <a:ln w="0">
            <a:noFill/>
          </a:ln>
        </p:spPr>
      </p:pic>
      <p:sp>
        <p:nvSpPr>
          <p:cNvPr id="908"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9"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0"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1 Rectángulo" descr=""/>
          <p:cNvPicPr/>
          <p:nvPr/>
        </p:nvPicPr>
        <p:blipFill>
          <a:blip r:embed="rId1"/>
          <a:stretch/>
        </p:blipFill>
        <p:spPr>
          <a:xfrm>
            <a:off x="4248000" y="1285920"/>
            <a:ext cx="2347920" cy="536400"/>
          </a:xfrm>
          <a:prstGeom prst="rect">
            <a:avLst/>
          </a:prstGeom>
          <a:ln w="0">
            <a:noFill/>
          </a:ln>
        </p:spPr>
      </p:pic>
      <p:sp>
        <p:nvSpPr>
          <p:cNvPr id="912"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Calibri"/>
            </a:endParaRPr>
          </a:p>
        </p:txBody>
      </p:sp>
      <p:sp>
        <p:nvSpPr>
          <p:cNvPr id="914"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Calibri"/>
            </a:endParaRPr>
          </a:p>
        </p:txBody>
      </p:sp>
      <p:sp>
        <p:nvSpPr>
          <p:cNvPr id="915" name="6 CuadroTexto"/>
          <p:cNvSpPr/>
          <p:nvPr/>
        </p:nvSpPr>
        <p:spPr>
          <a:xfrm>
            <a:off x="2928960" y="500076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05T18:10:08Z</dcterms:modified>
  <cp:revision>120</cp:revision>
  <dc:subject/>
  <dc:title>Diapositiva 1</dc:title>
</cp:coreProperties>
</file>